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EC96-DF97-49EF-9B94-44A49E85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798-3D83-4607-A8F5-5E25B5F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6EC-730F-46A3-9DD0-A681E8B7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221-448C-402F-801E-20BF301D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79F-DBBD-401F-B1FE-EE6A50E4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A1E-FAFA-408C-843A-D26A0849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7A4-34B3-444E-815F-510A5E28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EFA-E993-4095-9DC9-0390F3E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184-32EA-4B15-8EDA-5695CA8B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FF6-E65E-4613-956C-7118E231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448-C54E-4D26-AE27-31E7233D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9A4-2984-4A5D-9D1C-6C55715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5A09-2B38-43F5-958B-6468FA49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REŞTEREA ŞI DEZVOLTAREA ECONOMIC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Economie, clasele a X-a şi a XI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Maria Liana Lăcătuş, George-Paul Lăcătuş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67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hiar economiile cele mai dinamice, care au promovat progresul tehnic şi au înregistrat creşteri rapide la nivelul capacităţilor de producţie, nu au putut asigura o creştere economică permanent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reşterea economică din anumite perioade de timp a fost urmată de recesiune şi depresiune, cu alte cuvinte, de scăderea nivelului producţiei şi a gradului de ocupare a forţei de muncă, de şomaj și infla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voluează ciclic, înregistrând creşteri şi căderi period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tivitatea economică este fluctuantă. Unele fluctuaţii reprezintă variaţii sezoniere ale activităţii desfăşurate, însă altele sunt periodice şi ţin de o evoluţie ciclică a econom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ul economic este intervalul dintre două perioade succesive de creştere economic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ecare ciclu economic are o anumită intensitate şi durată şi se deosebeşte, prin acestea, de celelalte, deşi presupune parcurgerea aceloraşi patru faze. Periodicitatea medie a unui ciclu este de 8-10 ani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omp_i"/>
          <p:cNvPicPr/>
          <p:nvPr/>
        </p:nvPicPr>
        <p:blipFill>
          <a:blip r:embed="rId1"/>
          <a:stretch/>
        </p:blipFill>
        <p:spPr>
          <a:xfrm>
            <a:off x="5181480" y="175248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ajul este un dezechilibru economic care constă în existenţa unui surplus de ofertă pe piaţa forţei de mun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a totală cuprin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inap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pulaţie aptă, dar care nu este disponibil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orţa de muncă - populaţia ocupat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om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ipuri de şoma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cțional (voluntar sau sezoni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tructur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c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ntru a combate şomajul, statul promovează politici active de ocupare a forţei de muncă, adoptând măsuri prec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prijinirea creării de locuri de muncă pentru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facilităţi fiscale agenţilor economici care angajează şome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ntegrarea şomerilor în programe de recalificare și creştere a gradului de reintegrare a acestor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279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ordarea de subsidii agenţilor economici care angajează absolvenţ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3-08T12:45:56Z</dcterms:modified>
  <cp:revision>2</cp:revision>
  <dc:subject>CNEE</dc:subject>
  <dc:title>CN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